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75C-7987-4097-AF87-E87B875E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390D-265B-4C42-A0B8-65648591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261D-DF8A-4561-8C66-FC94EE63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F679-1C31-4E82-BA41-8730EA5D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1939-0E4B-4B58-A6FE-0B1B0367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A78E-00F4-4144-AD67-463FB755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8220-5C5E-4D9F-9049-E3E83588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6760-1D6F-4A16-896D-F4DBF242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3A3E-2CBF-484C-B743-87DE824A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08EF-9A76-4760-A726-2E83FE93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E570-A9D6-426A-AE2A-03232BC3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8D75-0DB0-4B80-AE6A-765A806E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5D08-1EEC-4FFB-B16F-A10690D5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EE9F-2B85-4E25-BF01-89445801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4613-6F3E-4108-A71B-7BF9C261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8DAB-FCFC-47B5-B684-A8A8148C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A322-686F-45FF-8EB1-3A54C037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EAB0-F066-41F2-BFE4-8286246E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F135-06BA-4261-BBD8-93220D14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54F8-D1A3-42BB-9417-A7B96AD6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BCEE-9087-419C-BBE5-D5FEB3D7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4584-A065-4491-9586-AA021FD0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20F5-1A7B-42E8-BAE7-91EF85D4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A8E9-C18D-4E2F-BFCD-8C8961EF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E8EE-789B-4ECD-918F-8D47D388EEE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3CE6-96A5-49EB-83BA-773E11057D8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enchem.chem.wisc.edu/demonstrations/Gen_Chem_Pages/05gasespage/collapsing_aluminum_can.htm" TargetMode="External"/><Relationship Id="rId2" Type="http://schemas.openxmlformats.org/officeDocument/2006/relationships/hyperlink" Target="http://www.delta.edu/slime/cancrush.html" TargetMode="External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24364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99"/>
                </a:solidFill>
                <a:uFillTx/>
                <a:latin typeface="Verdana"/>
              </a:rPr>
              <a:t>Kinetic Molecular Theory</a:t>
            </a:r>
            <a:r>
              <a:rPr b="0" lang="en-US" sz="4000" spc="-1" strike="noStrike">
                <a:solidFill>
                  <a:srgbClr val="cc0099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1)  Gas particles do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not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attract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or 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repe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2)  Gas particles are smaller than space between them.(almost all the volume of a gas is 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empty spac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3)  Gas particles (atoms or molecules) are in 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constant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random motio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4)  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No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Kinetic Energy is 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lost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when gas particles collid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5)  All gasses have the 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same average K.E.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at a given temperatur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Gay-Lussac’s Law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f volume is held constant, when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Verdana"/>
              </a:rPr>
              <a:t> temperature increases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,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Verdana"/>
              </a:rPr>
              <a:t>pressure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ill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Verdana"/>
              </a:rPr>
              <a:t>increas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When the temperature decreases, pressure will decrease.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directl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proportiona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mperatures must be in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Kelvi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Gay-Lussac’s Law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member, standard pressure i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 atm or 101.3 kP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P</a:t>
            </a:r>
            <a:r>
              <a:rPr b="0" lang="en-US" sz="4400" spc="-1" strike="noStrike" u="sng" baseline="-25000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P</a:t>
            </a:r>
            <a:r>
              <a:rPr b="0" lang="en-US" sz="4400" spc="-1" strike="noStrike" u="sng" baseline="-25000">
                <a:solidFill>
                  <a:srgbClr val="000000"/>
                </a:solidFill>
                <a:uFillTx/>
                <a:latin typeface="Verdan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t constant volum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    T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Direct proportional graph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600200" y="4876920"/>
            <a:ext cx="1882440" cy="1677600"/>
            <a:chOff x="1600200" y="4876920"/>
            <a:chExt cx="1882440" cy="1677600"/>
          </a:xfrm>
        </p:grpSpPr>
        <p:sp>
          <p:nvSpPr>
            <p:cNvPr id="202" name=""/>
            <p:cNvSpPr/>
            <p:nvPr/>
          </p:nvSpPr>
          <p:spPr>
            <a:xfrm>
              <a:off x="1600200" y="5375520"/>
              <a:ext cx="3052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32960" y="6181200"/>
              <a:ext cx="30420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1905480" y="4876920"/>
              <a:ext cx="1577160" cy="1314000"/>
              <a:chOff x="1905480" y="4876920"/>
              <a:chExt cx="1577160" cy="1314000"/>
            </a:xfrm>
          </p:grpSpPr>
          <p:sp>
            <p:nvSpPr>
              <p:cNvPr id="205" name=""/>
              <p:cNvSpPr/>
              <p:nvPr/>
            </p:nvSpPr>
            <p:spPr>
              <a:xfrm>
                <a:off x="1905480" y="4876920"/>
                <a:ext cx="0" cy="1314000"/>
              </a:xfrm>
              <a:prstGeom prst="line">
                <a:avLst/>
              </a:prstGeom>
              <a:ln w="57240">
                <a:solidFill>
                  <a:srgbClr val="0066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905480" y="6190920"/>
                <a:ext cx="1577160" cy="0"/>
              </a:xfrm>
              <a:prstGeom prst="line">
                <a:avLst/>
              </a:prstGeom>
              <a:ln w="5724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1905480" y="5188320"/>
                <a:ext cx="1315440" cy="910440"/>
              </a:xfrm>
              <a:prstGeom prst="line">
                <a:avLst/>
              </a:prstGeom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Boyle’s Law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3886200" cy="4267080"/>
          </a:xfrm>
          <a:prstGeom prst="rect">
            <a:avLst/>
          </a:prstGeom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ffffcc"/>
            </a:outerShdw>
          </a:effectLst>
        </p:spPr>
      </p:pic>
      <p:sp>
        <p:nvSpPr>
          <p:cNvPr id="210" name=""/>
          <p:cNvSpPr/>
          <p:nvPr/>
        </p:nvSpPr>
        <p:spPr>
          <a:xfrm>
            <a:off x="5791320" y="2286000"/>
            <a:ext cx="304776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Robert Boyle (1627-1691). Son of Earl of Cork, Irelan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12" name="ShockwaveFlash1"/>
          <p:cNvGraphicFramePr/>
          <p:nvPr/>
        </p:nvGraphicFramePr>
        <p:xfrm>
          <a:off x="685800" y="838080"/>
          <a:ext cx="777240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7772400" cy="6019920"/>
                  </a:xfrm>
                  <a:prstGeom prst="rect">
                    <a:avLst/>
                  </a:prstGeom>
                  <a:ln w="9360">
                    <a:solidFill>
                      <a:srgbClr val="0066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Boyle’s Law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562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4114800" cy="4114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cc"/>
            </a:outerShdw>
          </a:effectLst>
        </p:spPr>
      </p:pic>
      <p:sp>
        <p:nvSpPr>
          <p:cNvPr id="219" name=""/>
          <p:cNvSpPr/>
          <p:nvPr/>
        </p:nvSpPr>
        <p:spPr>
          <a:xfrm>
            <a:off x="4950000" y="2514600"/>
            <a:ext cx="3666960" cy="1551960"/>
          </a:xfrm>
          <a:prstGeom prst="rect">
            <a:avLst/>
          </a:prstGeom>
          <a:solidFill>
            <a:srgbClr val="ebf7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Jacques Charles (1746-1823). Isolated boron and studied gases. Balloonis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21" name="ShockwaveFlash1"/>
          <p:cNvGraphicFramePr/>
          <p:nvPr/>
        </p:nvGraphicFramePr>
        <p:xfrm>
          <a:off x="685800" y="533520"/>
          <a:ext cx="777240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33520"/>
                    <a:ext cx="7772400" cy="5105160"/>
                  </a:xfrm>
                  <a:prstGeom prst="rect">
                    <a:avLst/>
                  </a:prstGeom>
                  <a:ln w="9360">
                    <a:solidFill>
                      <a:srgbClr val="0066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838680" cy="4572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952880" y="2819520"/>
            <a:ext cx="4191120" cy="82044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Joseph Louis Gay-Lussac (1778-1850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038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99"/>
                </a:solidFill>
                <a:latin typeface="Verdana"/>
              </a:rPr>
              <a:t>Which heel exerts more pressure on a surface</a:t>
            </a:r>
            <a:endParaRPr b="0" lang="en-US" sz="29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http://genchem.chem.wisc.edu/demonstrations/Gen_Chem_Pages/05gasespage/collapsing_aluminum_can.ht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http://www.delta.edu/slime/cancrush.htm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038480" y="2362320"/>
            <a:ext cx="4343040" cy="2818800"/>
            <a:chOff x="4038480" y="2362320"/>
            <a:chExt cx="4343040" cy="2818800"/>
          </a:xfrm>
        </p:grpSpPr>
        <p:pic>
          <p:nvPicPr>
            <p:cNvPr id="229" name="" descr=""/>
            <p:cNvPicPr/>
            <p:nvPr/>
          </p:nvPicPr>
          <p:blipFill>
            <a:blip r:embed="rId3"/>
            <a:stretch/>
          </p:blipFill>
          <p:spPr>
            <a:xfrm>
              <a:off x="4038480" y="2721960"/>
              <a:ext cx="1878480" cy="23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4"/>
            <a:stretch/>
          </p:blipFill>
          <p:spPr>
            <a:xfrm>
              <a:off x="6087960" y="2362320"/>
              <a:ext cx="2293560" cy="2818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http://www.kentchemistry.com/links/GasLaws/manBar.htm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3" name="" descr=" "/>
          <p:cNvPicPr/>
          <p:nvPr/>
        </p:nvPicPr>
        <p:blipFill>
          <a:blip r:embed="rId1"/>
          <a:stretch/>
        </p:blipFill>
        <p:spPr>
          <a:xfrm>
            <a:off x="914400" y="2057400"/>
            <a:ext cx="3157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99"/>
                </a:solidFill>
                <a:latin typeface="Verdana"/>
              </a:rPr>
              <a:t>GAS LAW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asis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f Gas Laws is t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nterdependenc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of Gas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Variable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Volum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Pressu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Temperatu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Number of Mo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Combined Gas Law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can u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ne bi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quation fo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 law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xcep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alton’s. This is called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ombined Gas Law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t means there are on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2 equation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rememb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</a:t>
            </a:r>
            <a:r>
              <a:rPr b="1" lang="en-US" sz="2800" spc="-1" strike="noStrike" u="sng" baseline="-25000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</a:t>
            </a:r>
            <a:r>
              <a:rPr b="1" lang="en-US" sz="2800" spc="-1" strike="noStrike" u="sng" baseline="-25000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</a:t>
            </a:r>
            <a:r>
              <a:rPr b="1" lang="en-US" sz="2800" spc="-1" strike="noStrike" u="sng" baseline="-25000">
                <a:solidFill>
                  <a:srgbClr val="000000"/>
                </a:solidFill>
                <a:uFillTx/>
                <a:latin typeface="Verdana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</a:t>
            </a:r>
            <a:r>
              <a:rPr b="1" lang="en-US" sz="2800" spc="-1" strike="noStrike" u="sng" baseline="-25000">
                <a:solidFill>
                  <a:srgbClr val="000000"/>
                </a:solidFill>
                <a:uFillTx/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r rewritten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=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EB SIT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</a:rPr>
              <a:t>PhET Simulations.ln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842400" y="3246480"/>
            <a:ext cx="74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http://phet.colorado.edu/simulations/sims.php?sim=Gas_Propertie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6666"/>
                </a:solidFill>
                <a:uFillTx/>
                <a:latin typeface="Verdana"/>
              </a:rPr>
              <a:t>Tricks 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9296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s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=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gnore the constants(they cancel out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ox the numbers AND units given!!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st out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mperatures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KELVIN!!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Remember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STP is 273 K and 1.0 atm (101.3 kPa, 760 torr, 760 mmHg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lug and chug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520" y="102960"/>
            <a:ext cx="716292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Example Problem #2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alculate the moles that are in 19.7 L of gas at STP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9.7 L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  X 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1 mole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 =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? Mo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2.4 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19.7 L</a:t>
            </a:r>
            <a:r>
              <a:rPr b="1" lang="en-US" sz="3200" spc="-1" strike="noStrike" u="sng">
                <a:solidFill>
                  <a:srgbClr val="006699"/>
                </a:solidFill>
                <a:uFillTx/>
                <a:latin typeface="Arial"/>
              </a:rPr>
              <a:t> X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1 mole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   0.881 mo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2.4 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47920" y="103320"/>
            <a:ext cx="72388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Ideal Gas Law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79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The physical behavior of a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ingle gas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ample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in terms of the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essure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olume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emperature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umber of moles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of gas presen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or              PV =nR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P= Pressure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= Volume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n= moles of gas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R= ideal gas constan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T= Temperatur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5328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Ideal Gas Law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ssumes that Particle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take up no spa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have no intermolecular attractive forc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follows the gas laws under all conditions of T and P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70866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Ideal Gas Constant  (R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n experimentally determined constant whose value in the ideal gas equation depends on the units used for pressu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0.0821 if in L</a:t>
            </a:r>
            <a:r>
              <a:rPr b="1" lang="en-US" sz="32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tm/mol</a:t>
            </a:r>
            <a:r>
              <a:rPr b="1" lang="en-US" sz="32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8.314 if in L</a:t>
            </a:r>
            <a:r>
              <a:rPr b="1" lang="en-US" sz="32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kPa/mol</a:t>
            </a:r>
            <a:r>
              <a:rPr b="1" lang="en-US" sz="32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62.4 if in L</a:t>
            </a:r>
            <a:r>
              <a:rPr b="1" lang="en-US" sz="32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mHg/mol</a:t>
            </a:r>
            <a:r>
              <a:rPr b="1" lang="en-US" sz="32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To Be Ideal Gase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ust completely follow the gas law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annot liquif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ust be at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ow pressur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igh temperatur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440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Real vs Ideal Gases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ost gases will behave like ideal gases except when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At extremely high pressur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At low temperatur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A polar ga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A large gas molecule (C</a:t>
            </a:r>
            <a:r>
              <a:rPr b="1" lang="en-US" sz="2800" spc="-1" strike="noStrike" baseline="-25000">
                <a:solidFill>
                  <a:srgbClr val="006699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6699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Example Problem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alculate the number of moles of ga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ontained in a 3.0 L vessel at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3.00 x 10</a:t>
            </a:r>
            <a:r>
              <a:rPr b="1" lang="en-US" sz="2800" spc="-1" strike="noStrike" baseline="30000">
                <a:solidFill>
                  <a:srgbClr val="006699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K with a pressure of 1.50 at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99"/>
                </a:solidFill>
                <a:latin typeface="Verdana"/>
              </a:rPr>
              <a:t>                  </a:t>
            </a:r>
            <a:r>
              <a:rPr b="1" lang="en-US" sz="3000" spc="-1" strike="noStrike">
                <a:solidFill>
                  <a:srgbClr val="006699"/>
                </a:solidFill>
                <a:latin typeface="Verdana"/>
              </a:rPr>
              <a:t>PV = nRT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99"/>
                </a:solidFill>
                <a:latin typeface="Verdana"/>
              </a:rPr>
              <a:t>V = 3.0 L          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99"/>
                </a:solidFill>
                <a:latin typeface="Verdana"/>
              </a:rPr>
              <a:t>T = 3.00 x 10</a:t>
            </a:r>
            <a:r>
              <a:rPr b="1" lang="en-US" sz="31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1" lang="en-US" sz="3100" spc="-1" strike="noStrike">
                <a:solidFill>
                  <a:srgbClr val="006699"/>
                </a:solidFill>
                <a:latin typeface="Verdana"/>
              </a:rPr>
              <a:t> K = 300K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99"/>
                </a:solidFill>
                <a:latin typeface="Verdana"/>
              </a:rPr>
              <a:t>P = 1.50 atm  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99"/>
                </a:solidFill>
                <a:latin typeface="Verdana"/>
              </a:rPr>
              <a:t>R = .0821 L</a:t>
            </a:r>
            <a:r>
              <a:rPr b="1" lang="en-US" sz="31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3100" spc="-1" strike="noStrike">
                <a:solidFill>
                  <a:srgbClr val="006699"/>
                </a:solidFill>
                <a:latin typeface="Verdana"/>
              </a:rPr>
              <a:t>atm/mol</a:t>
            </a:r>
            <a:r>
              <a:rPr b="1" lang="en-US" sz="31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3100" spc="-1" strike="noStrike">
                <a:solidFill>
                  <a:srgbClr val="006699"/>
                </a:solidFill>
                <a:latin typeface="Verdana"/>
              </a:rPr>
              <a:t>K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99"/>
                </a:solidFill>
                <a:latin typeface="Verdana"/>
              </a:rPr>
              <a:t>n =  ?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TP (standard temperature and pressure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tandard temperature is either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0° Celsius or 273 Kelvin (no ° sign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For these formulas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      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Temperature </a:t>
            </a:r>
            <a:r>
              <a:rPr b="1" lang="en-US" sz="2400" spc="-1" strike="noStrike" u="sng">
                <a:solidFill>
                  <a:srgbClr val="ff0066"/>
                </a:solidFill>
                <a:uFillTx/>
                <a:latin typeface="Verdana"/>
              </a:rPr>
              <a:t>MUST BE IN KELVI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(remember 0 deg. K is the absence of all heat energy!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Standard pressure in several units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1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atm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= 101.3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KPa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=760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mm of Hg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= 760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torr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The volume for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one mole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of a gas at STP is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22.4 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440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V = 3.0 L           T = 3.00 x 10</a:t>
            </a:r>
            <a:r>
              <a:rPr b="1" lang="en-US" sz="26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 K = 300K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P = 1.50 atm     R = .0821 L</a:t>
            </a:r>
            <a:r>
              <a:rPr b="1" lang="en-US" sz="26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atm/mol</a:t>
            </a:r>
            <a:r>
              <a:rPr b="1" lang="en-US" sz="26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K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n =  ?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PV = nRT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                 V             n                             R                       T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(1.5atm)(3.0L) =n(.0821 L</a:t>
            </a:r>
            <a:r>
              <a:rPr b="1" lang="en-US" sz="26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atm/mol</a:t>
            </a:r>
            <a:r>
              <a:rPr b="1" lang="en-US" sz="26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K)(300 K)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n =  </a:t>
            </a:r>
            <a:r>
              <a:rPr b="1" lang="en-US" sz="2600" spc="-1" strike="noStrike" u="sng">
                <a:solidFill>
                  <a:srgbClr val="006699"/>
                </a:solidFill>
                <a:uFillTx/>
                <a:latin typeface="Verdana"/>
              </a:rPr>
              <a:t>        (1.5 atm)(3.0 L)          .</a:t>
            </a: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1" lang="en-US" sz="2600" spc="-1" strike="noStrike" u="sng">
                <a:solidFill>
                  <a:srgbClr val="006699"/>
                </a:solidFill>
                <a:uFillTx/>
                <a:latin typeface="Verdana"/>
              </a:rPr>
              <a:t>                      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(.0821 L</a:t>
            </a:r>
            <a:r>
              <a:rPr b="1" lang="en-US" sz="26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atm/mol</a:t>
            </a:r>
            <a:r>
              <a:rPr b="1" lang="en-US" sz="26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K)(300 K)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n = .18 mol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-3812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Boyles Law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When the </a:t>
            </a:r>
            <a:r>
              <a:rPr b="1" lang="en-US" sz="2800" spc="-1" strike="noStrike">
                <a:solidFill>
                  <a:srgbClr val="cc00cc"/>
                </a:solidFill>
                <a:latin typeface="Verdana"/>
              </a:rPr>
              <a:t>temperature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and the </a:t>
            </a:r>
            <a:r>
              <a:rPr b="1" lang="en-US" sz="2800" spc="-1" strike="noStrike">
                <a:solidFill>
                  <a:srgbClr val="cc00cc"/>
                </a:solidFill>
                <a:latin typeface="Verdana"/>
              </a:rPr>
              <a:t># of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Verdana"/>
              </a:rPr>
              <a:t>moles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of a sample of a gas is held constant, its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volume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is 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Verdana"/>
              </a:rPr>
              <a:t>inversely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proportional to its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pressure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In other words, as 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Verdana"/>
              </a:rPr>
              <a:t>volume increases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1" lang="en-US" sz="2800" spc="-1" strike="noStrike" u="sng">
                <a:solidFill>
                  <a:srgbClr val="cc00cc"/>
                </a:solidFill>
                <a:uFillTx/>
                <a:latin typeface="Verdana"/>
              </a:rPr>
              <a:t>pressure decreases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, or 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Verdana"/>
              </a:rPr>
              <a:t>as volume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Verdana"/>
              </a:rPr>
              <a:t>decreases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1" lang="en-US" sz="2800" spc="-1" strike="noStrike" u="sng">
                <a:solidFill>
                  <a:srgbClr val="cc00cc"/>
                </a:solidFill>
                <a:uFillTx/>
                <a:latin typeface="Verdana"/>
              </a:rPr>
              <a:t>pressure increases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P</a:t>
            </a:r>
            <a:r>
              <a:rPr b="1" lang="en-US" sz="32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V</a:t>
            </a:r>
            <a:r>
              <a:rPr b="1" lang="en-US" sz="32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=P</a:t>
            </a:r>
            <a:r>
              <a:rPr b="1" lang="en-US" sz="32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V</a:t>
            </a:r>
            <a:r>
              <a:rPr b="1" lang="en-US" sz="32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1" lang="en-US" sz="3200" spc="-1" strike="noStrike" baseline="-25000">
                <a:solidFill>
                  <a:srgbClr val="006699"/>
                </a:solidFill>
                <a:latin typeface="Verdana"/>
              </a:rPr>
              <a:t>(inverse relationship graph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3370320"/>
            <a:ext cx="3245760" cy="3030120"/>
            <a:chOff x="990720" y="3370320"/>
            <a:chExt cx="3245760" cy="3030120"/>
          </a:xfrm>
        </p:grpSpPr>
        <p:sp>
          <p:nvSpPr>
            <p:cNvPr id="175" name=""/>
            <p:cNvSpPr/>
            <p:nvPr/>
          </p:nvSpPr>
          <p:spPr>
            <a:xfrm>
              <a:off x="1311120" y="4572000"/>
              <a:ext cx="0" cy="14320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11120" y="6004080"/>
              <a:ext cx="16603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1467000" y="3370320"/>
              <a:ext cx="2768760" cy="246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234" y="9"/>
                  </a:moveTo>
                  <a:arcTo wR="10800" hR="10800" stAng="-5261898" swAng="5261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234" y="9"/>
                  </a:moveTo>
                  <a:arcTo wR="10800" hR="10800" stAng="-5261898" swAng="5261898"/>
                </a:path>
              </a:pathLst>
            </a:custGeom>
            <a:noFill/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90720" y="5114520"/>
              <a:ext cx="32040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72080" y="5992920"/>
              <a:ext cx="32040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Practice Problems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f a gas has a volume of 100 mL when the pressure is 1.50 atm, what is the volume in mL when the pressure is increased to 4.5atm, and the temperature is held constant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Think first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If my </a:t>
            </a:r>
            <a:r>
              <a:rPr b="1" lang="en-US" sz="3200" spc="-1" strike="noStrike">
                <a:solidFill>
                  <a:srgbClr val="cc00cc"/>
                </a:solidFill>
                <a:latin typeface="Verdana"/>
              </a:rPr>
              <a:t>pressur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Verdana"/>
              </a:rPr>
              <a:t>increases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, what should the </a:t>
            </a:r>
            <a:r>
              <a:rPr b="1" lang="en-US" sz="3200" spc="-1" strike="noStrike">
                <a:solidFill>
                  <a:srgbClr val="cc00cc"/>
                </a:solidFill>
                <a:latin typeface="Verdana"/>
              </a:rPr>
              <a:t>volume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o?____________________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=      P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=      V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Verdana"/>
              </a:rPr>
              <a:t>2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=    P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=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Practice Problems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f a gas has a volume of 100 mL when the pressure is 1.50 atm, what is the volume in mL when the pressure is increased to 4.5atm, and the temperature is held constant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97240" indent="-5972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Think first: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If my pressure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increase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, what should the volume do? (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Decreas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 100 mL; P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1.5 atm; V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2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? P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 4.5 at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1.5 atm x 100 mL = 4.5 atm x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?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m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1.5 atm x 100 mL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= ? mL = 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Verdana"/>
              </a:rPr>
              <a:t>33mL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(decrease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4.5 at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Charles’ Law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pressure is held constant, when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Verdana"/>
              </a:rPr>
              <a:t>temperature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Verdana"/>
              </a:rPr>
              <a:t>increases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Verdan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 u="sng">
                <a:solidFill>
                  <a:srgbClr val="cc00cc"/>
                </a:solidFill>
                <a:uFillTx/>
                <a:latin typeface="Verdana"/>
              </a:rPr>
              <a:t>volume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will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Verdana"/>
              </a:rPr>
              <a:t>increa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When the 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temperature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3200" spc="-1" strike="noStrike" u="sng">
                <a:solidFill>
                  <a:srgbClr val="cc00cc"/>
                </a:solidFill>
                <a:uFillTx/>
                <a:latin typeface="Verdana"/>
              </a:rPr>
              <a:t>decreas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volume will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Verdana"/>
              </a:rPr>
              <a:t>decrease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directl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portional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nvert degree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Verdana"/>
              </a:rPr>
              <a:t>Celsiu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Verdana"/>
              </a:rPr>
              <a:t>Kelvin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27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… because 0 K is the same a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Verdana"/>
              </a:rPr>
              <a:t>273 °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6666"/>
                </a:solidFill>
                <a:uFillTx/>
                <a:latin typeface="Verdana"/>
              </a:rPr>
              <a:t>Charles’ Law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member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standar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mperature i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Verdana"/>
              </a:rPr>
              <a:t>273 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V</a:t>
            </a:r>
            <a:r>
              <a:rPr b="0" lang="en-US" sz="4400" spc="-1" strike="noStrike" u="sng" baseline="-25000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V</a:t>
            </a:r>
            <a:r>
              <a:rPr b="0" lang="en-US" sz="4400" spc="-1" strike="noStrike" u="sng" baseline="-25000">
                <a:solidFill>
                  <a:srgbClr val="000000"/>
                </a:solidFill>
                <a:uFillTx/>
                <a:latin typeface="Verdan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t constant pressur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    T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irect relationship graph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5280" y="4114800"/>
            <a:ext cx="1904760" cy="1752120"/>
            <a:chOff x="1295280" y="4114800"/>
            <a:chExt cx="1904760" cy="1752120"/>
          </a:xfrm>
        </p:grpSpPr>
        <p:sp>
          <p:nvSpPr>
            <p:cNvPr id="189" name=""/>
            <p:cNvSpPr/>
            <p:nvPr/>
          </p:nvSpPr>
          <p:spPr>
            <a:xfrm>
              <a:off x="1295280" y="4635360"/>
              <a:ext cx="30888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38840" y="5477040"/>
              <a:ext cx="30780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604160" y="4114800"/>
              <a:ext cx="1595880" cy="1372320"/>
              <a:chOff x="1604160" y="4114800"/>
              <a:chExt cx="1595880" cy="1372320"/>
            </a:xfrm>
          </p:grpSpPr>
          <p:sp>
            <p:nvSpPr>
              <p:cNvPr id="192" name=""/>
              <p:cNvSpPr/>
              <p:nvPr/>
            </p:nvSpPr>
            <p:spPr>
              <a:xfrm>
                <a:off x="1604160" y="4114800"/>
                <a:ext cx="0" cy="1372320"/>
              </a:xfrm>
              <a:prstGeom prst="line">
                <a:avLst/>
              </a:prstGeom>
              <a:ln w="57240">
                <a:solidFill>
                  <a:srgbClr val="0066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604160" y="5487120"/>
                <a:ext cx="1595880" cy="0"/>
              </a:xfrm>
              <a:prstGeom prst="line">
                <a:avLst/>
              </a:prstGeom>
              <a:ln w="5724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604160" y="4440240"/>
                <a:ext cx="1331280" cy="950760"/>
              </a:xfrm>
              <a:prstGeom prst="line">
                <a:avLst/>
              </a:prstGeom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Charles’ Law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o if you are solving for a </a:t>
            </a:r>
            <a:r>
              <a:rPr b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variabl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V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T</a:t>
            </a:r>
            <a:r>
              <a:rPr b="1" lang="en-US" sz="32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= V</a:t>
            </a:r>
            <a:r>
              <a:rPr b="1" lang="en-US" sz="32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T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Verdana"/>
              </a:rPr>
              <a:t>1   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or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V</a:t>
            </a:r>
            <a:r>
              <a:rPr b="1" lang="en-US" sz="3200" spc="-1" strike="noStrike" u="sng" baseline="-25000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 T</a:t>
            </a:r>
            <a:r>
              <a:rPr b="1" lang="en-US" sz="3200" spc="-1" strike="noStrike" u="sng" baseline="-25000">
                <a:solidFill>
                  <a:srgbClr val="000000"/>
                </a:solidFill>
                <a:uFillTx/>
                <a:latin typeface="Verdana"/>
              </a:rPr>
              <a:t>2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9:48:44Z</dcterms:created>
  <dc:creator>CFISD</dc:creator>
  <dc:description/>
  <dc:language>en-US</dc:language>
  <cp:lastModifiedBy>CFISD</cp:lastModifiedBy>
  <dcterms:modified xsi:type="dcterms:W3CDTF">2009-09-21T11:30:46Z</dcterms:modified>
  <cp:revision>88</cp:revision>
  <dc:subject/>
  <dc:title>Chapter 13.4 and 14</dc:title>
</cp:coreProperties>
</file>